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3985409"/>
        <c:axId val="50011671"/>
      </c:barChart>
      <c:catAx>
        <c:axId val="53985409"/>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0011671"/>
        <c:crosses val="autoZero"/>
        <c:auto val="1"/>
        <c:lblAlgn val="ctr"/>
        <c:lblOffset val="100"/>
        <c:noMultiLvlLbl val="0"/>
      </c:catAx>
      <c:valAx>
        <c:axId val="50011671"/>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3985409"/>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75A5A-2CAC-4B5E-AD90-D83E5DC98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834A9-74FB-4A9A-A71C-9C029FE1F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07C1A-614A-4947-A4E9-11663B266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6F3E9-B7E4-40F8-95BD-312FCFE82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3B91F-028B-45A3-8E6A-352D7B809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BF7BC-0F60-41C7-980D-09C3F45CB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B0AC3-4062-488C-AC2A-938EFC2C5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C15EE-7261-4544-A6A2-72F99EFEF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987F6-CD72-4A66-9C2A-53BE79DE0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4A1D9-22AC-4C21-A86A-7A2B74B89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6DE15-07DE-4C86-82E0-DCF8AFF5E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3AB3E-2504-40CE-9653-61DEE7F6C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01A1A-F9BE-487D-8F77-869FAA9CA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924E6-D2D5-4040-8DA5-22329FE38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46B31-F19F-4D10-83A9-0D4744E21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E6B2A-7129-4481-9D5B-A393B0CFB2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BBA1E-65F7-4C99-A773-676B4A644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908DF-E953-4E1E-9193-0D0529893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332DE-014C-4EDE-809B-9EF83BBCA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64E15-9640-425B-B0D8-E7783CE66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D9CCD-0265-46BF-BB3E-3D9DA5099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2A14-FE5B-4883-97A4-0C28BFDF4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BE8B9-B612-42DE-9ED5-30BC45DD3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D7CA-9064-4A86-9C04-115BEEC1E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05502E-632B-4351-8DA5-41CF6FCCA91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9F3BAC-C677-456C-AAC5-4A9CDE94A97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