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89543906"/>
        <c:axId val="47498867"/>
      </c:barChart>
      <c:catAx>
        <c:axId val="89543906"/>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47498867"/>
        <c:crosses val="autoZero"/>
        <c:auto val="1"/>
        <c:lblAlgn val="ctr"/>
        <c:lblOffset val="100"/>
        <c:noMultiLvlLbl val="0"/>
      </c:catAx>
      <c:valAx>
        <c:axId val="47498867"/>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89543906"/>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BDAD8-F1BC-4374-95B5-4F9D1A44C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01DA3-4646-4565-9A49-06B84A04E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B7E90-6674-4A57-83B2-6153F0D3B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BCA36-2D8C-4BA8-9DD7-BD365A562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CCF89A-132C-45BD-952F-8A0A1EDC1B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E9A8F-F14B-49AE-9440-B829053A15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46DC5-E7B1-4690-984F-7264F34D3A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F432E-0A8E-4D17-9AB9-5FF2DC07A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4957D-3AE7-4E36-BF50-6EC24C464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017BE1-D72A-4B07-BDDF-112BEC28E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99FE7-58B8-48EC-8993-753E1F502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C8F7F-875F-4C8A-A973-6C5F16246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CF1B1-0D20-4B02-A9B2-0C94B324A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FF340-00BC-4301-8813-C2575061B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06CCD-12A8-462E-89C4-D3C822F8D1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AA1F34-4138-43C6-9DBD-BCBBF30BFB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6EDD7C-FD5E-4702-A3FA-E1B4B171D8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486F3-6616-40E2-8CCB-13CA5321E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AA3BD-8874-4104-ACC8-E3C6EC3E6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C1361-2520-4F3E-AE70-26FDCDC11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C6834-CCC5-4F15-9F0A-641A9DC7A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8A53F-38F7-4A83-A798-36AA56552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3DA7F-71A6-43ED-9AB4-EB6ABED2C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0CE44-C5EE-490C-8214-F523300DEE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AA8838-8534-4385-96A0-CE62D3AB7F03}"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D16187-2634-4D90-8DC2-B5F04D4AE218}"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