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3263600"/>
        <c:axId val="70999053"/>
      </c:barChart>
      <c:catAx>
        <c:axId val="7326360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0999053"/>
        <c:crosses val="autoZero"/>
        <c:auto val="1"/>
        <c:lblAlgn val="ctr"/>
        <c:lblOffset val="100"/>
        <c:noMultiLvlLbl val="0"/>
      </c:catAx>
      <c:valAx>
        <c:axId val="7099905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326360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04EBE-2C7F-475D-8EFA-87A02FB08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6373-73EB-4909-8C9C-4A4D48231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BCF33-7A77-4FEB-8C83-679450871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88C58-97F1-4B60-B4BA-7154F2105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7A22E-D902-4BDD-BA3A-7270F1F41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2487B-74F6-401A-9895-00EA67A3B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A20A8-46DE-4DA9-A3E8-F2E9B07AF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00AC4-4DBE-4B10-944A-ACA633A91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78FCC-48BA-451A-B30B-F3AD81E82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DF7FE-4157-429A-834D-A0365CDCC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4344F-69BD-4280-85F2-8DE733370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B1356-7FFC-4160-B88B-D24C5E4DB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F1449-659C-4119-BD50-1D584C6F9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B82FF-4068-407B-8196-1B1E9E2CA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54A30-4AE5-4BCB-B271-4D5D56664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1BF86-A497-4752-BCE1-606F7F7B6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D8271-50C7-4841-93E9-06BC9CC43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1DB7C-CD74-4E98-A128-C57B11A81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B709E-A8CB-48E3-826F-7775DE588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F4F88-E955-48AC-8814-B3CD17D4B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9ACFE-7E27-44EE-93DD-F52F70DD6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E5FBC-8941-45C8-9DC6-2494AFD41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4F392-9582-45BF-9B8A-97A99EE3C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E543A-E162-4CC1-8E51-A15E74378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6B15BA-E8C4-4B0B-AE01-2147BDAD128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423984-08EA-4D82-A60E-D4804DF300E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